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8.png" ContentType="image/png"/>
  <Override PartName="/ppt/media/image5.gif" ContentType="image/gif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9.png" ContentType="image/png"/>
  <Override PartName="/ppt/media/image13.wmf" ContentType="image/x-wm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1876-007E-439A-85AB-FEAD93478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13C6-95E4-4C24-88EF-A65A342FA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ACEF-BB93-4B41-9BD3-BE850AEED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36A2-570B-457B-97B5-28784F695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E6EAF-309D-4EAA-99A3-5CD3C7F75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62C8E-3F99-4936-A642-A2241D898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E2D87-2141-489A-B67F-2CFB16FAF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17841-31C9-4658-9441-C81D72C48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02C12-6A6D-4850-A253-C528C8F8C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90B0E-ADFE-449A-B098-39699412F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CE66F-3C99-4BB2-B024-081BFD728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7E6C-AD41-49EC-98DF-73D39AC85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6EF73-1CF3-4035-ADEB-98CEB6DD1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8FD41-9D48-40BD-93BC-B7DEA0463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58619-3A5B-46DA-B4BD-A9B4BBC22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B6A02-FFA7-4253-B1A7-A0D4BE51A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E84D2-87F4-420A-8A0C-80B95BECA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FAEE-D476-4655-97C8-79D8B932B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D74D-B505-41FF-8BB0-5AABE0CCA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5B97-7D41-4A96-BAB3-6B50260E2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B1C4-5565-4A69-8D71-D8D074E3E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0E6D-1791-4799-B50F-61511DC54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BE5A-8C0F-4377-9318-142B4993E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4AE7-7EDD-47D0-A0A7-FF2648FC3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4c3d8"/>
                </a:gs>
                <a:gs pos="100000">
                  <a:srgbClr val="b8b7d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c4c3d8"/>
                </a:gs>
                <a:gs pos="100000">
                  <a:srgbClr val="b8b7d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1bcf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a6f8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769A3-C1FB-41F1-AE6E-D0FA3CB4CC3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4c3d8"/>
                </a:gs>
                <a:gs pos="100000">
                  <a:srgbClr val="b8b7d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c4c3d8"/>
                </a:gs>
                <a:gs pos="100000">
                  <a:srgbClr val="b8b7d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7C1AE-F983-404D-A8C1-A32D621F1F4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55280" y="2923920"/>
            <a:ext cx="7870680" cy="19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800"/>
            </a:br>
            <a:r>
              <a:rPr b="1" i="1" lang="ru-RU" sz="3600" spc="-1" strike="noStrike">
                <a:solidFill>
                  <a:srgbClr val="ff3300"/>
                </a:solidFill>
                <a:latin typeface="Arial"/>
              </a:rPr>
              <a:t>Вирусы</a:t>
            </a:r>
            <a:br>
              <a:rPr sz="3600"/>
            </a:br>
            <a:br>
              <a:rPr sz="3600"/>
            </a:br>
            <a:r>
              <a:rPr b="1" i="1" lang="ru-RU" sz="3600" spc="-1" strike="noStrike">
                <a:solidFill>
                  <a:srgbClr val="ff3300"/>
                </a:solidFill>
                <a:latin typeface="Arial"/>
              </a:rPr>
              <a:t>Бактерии</a:t>
            </a:r>
            <a:br>
              <a:rPr sz="3600"/>
            </a:br>
            <a:br>
              <a:rPr sz="36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684360" y="333360"/>
            <a:ext cx="1601640" cy="331164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372360" y="476280"/>
            <a:ext cx="2484360" cy="23004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539640" y="4365720"/>
            <a:ext cx="2784600" cy="210024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4"/>
          <a:stretch/>
        </p:blipFill>
        <p:spPr>
          <a:xfrm>
            <a:off x="5867280" y="4365720"/>
            <a:ext cx="2808360" cy="21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15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4679640" cy="3529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5508720" y="260280"/>
            <a:ext cx="3240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Бледная спирох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Длинные (4-16 мкм) и тонкие (0,1-0,4 мкм), спирально извитые, бактерии. Имеют плотную осевую (опорную) нить, вокруг которой закручена клетка. Способны сокращаться и изгибаться, перемещаясь винтообразн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50920" y="4292640"/>
            <a:ext cx="856908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Вызывают сифилис. Заражение происходит при половых сношениях, реже - при поцелуях, а также через любой предмет (ложка, стакан, зубная щётка, губная помада, сигарета и т. п.), на котором имеется невысохшее отделяемое, содержащее бледные спирохеты. Возможно внутриутробное заражение от больной матери через плаценту. Смотри фото новорожденного с сифилитическими поражениями глаз и кожи лиц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4513320" cy="34038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5076720" y="476280"/>
            <a:ext cx="37432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Кишечная палоч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Палочковидная бактерия со слегка закруглёнными концами (размеры 1-3 х 0,4-0,8 мкм). Подвижна - имеет жгутики. Спор не образует, аэроб или факультативный анаэроб. Обычно обитает в кишечнике человека и является одним из основных компонентов нормального кишечного населения. Участвует в синтезе витаминов группы В. Является антагонистом многих болезнетворных микроорганизм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79280" y="4076640"/>
            <a:ext cx="453708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Обычна в загрязненной почве, воде, на растениях. Классический объект микробиологических и молекулярно-генетических исследований. Только некоторые разновидности кишечной палочки могут вызывать кишечные заболевания у люд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11280" y="260280"/>
            <a:ext cx="4368600" cy="329400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250920" y="3573360"/>
            <a:ext cx="86421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Гетеротрофные подвижные палочки, обнаруживаются в кишечнике различных домашних и диких животных, водоплавающих птиц и рыб. Споры очень устойчивы во внешней среде. Клостридиум ботулинум вызывает ботулизм - смертельно опасную острую инфекционную болезнь, обусловленную поражением токсинами бактерий нервной системы. Смерть часто возникает из-за остановки дыхания. В организм человека ботулотоксин попадает с пищевыми продуктами, которые содержат эти бактерии и хранились в анаэробных или близких к тому условиях без достаточной предварительной термической обработки (консервы, особенно, домашнего приготовления, копченые, вяленые мясные и рыбные изделия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292720" y="1125360"/>
            <a:ext cx="3600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Клостридиу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4944960" cy="372924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24000" y="4508640"/>
            <a:ext cx="8496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НОСТОК - род цианобактерий. Колониальные организмы. Ок. 40 видов, распространены широко; обитают в пресных водах, на влажных скалах и почве (некоторые усваивают атмосферный азот). В странах Вост. Азии носток используют в пищ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508720" y="1484280"/>
            <a:ext cx="3095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Ност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4537080" cy="341964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5292720" y="765000"/>
            <a:ext cx="33829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Стафилококк золотист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тафилококки представляют собой неподвижные аэробные или анаэробные бактерии шаровидной формы. Они образуют неправильные скопления, напоминающие гроздья винограда. Наибольшее значение в патологии человека имеет золотистый стафилококк (при росте на твердых питательных средах он вырабатывает каротиноиды, окрашивающие колонии в золотистый цвет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50920" y="4221000"/>
            <a:ext cx="4608360" cy="27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Стафилококки являются возбудителями многих гнойных инфекций человека, таких как фурункулез, дерматиты, экземы, пневмонии, менингиты, аппендициты, сепсис. Нередко вызывают пищевые отравления, что связано с их способностью вырабатывать токси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250920" y="115920"/>
            <a:ext cx="4513320" cy="340344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5219640" y="1197000"/>
            <a:ext cx="36003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Стрептококк молочн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тносится к группе молочнокислых бактерий - анаэробных бактерий, сбраживающих углеводы с образованием молочной кислоты. Все они неподвижны и не образуют споры. Имеются шаровидные молочнокислые бактерии, клетки которых образуют цепочки, например стрептококк молочный и палочковидные, например лактобациллюс или бифидобакте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50920" y="3573360"/>
            <a:ext cx="4681440" cy="407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Обитающие в кишечнике человека молочнокислые бактерии подавляют развитие гнилостных и болезнетворных микробов, способствуют перевариванию углеводов, образуют витамины группы В (B1, B2 и др.) и витамин К. Молочнокислые бактерии широко применяются в промышленности и сельском хозяйстве. Отдельные виды молочнокислых бактерий вызывают порчу вина и пив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179280" y="1341360"/>
            <a:ext cx="5016600" cy="37832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5364000" y="476280"/>
            <a:ext cx="360072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Короткая, изогнутая в виде запятой палочка с одним полярно расположенным жгутиком. Не образует споры. Длина менее 10 мкм, диаметр от 1 до 1,5 мкм. Аэробная гетеротрофная бактерия. Возбудитель холеры - смертельно опасного заболевания человека и животных. Выделена в 1886 г. Р.Кохом из испражнений больных животных. Долгое время может сохраняться в воде загрязненных рек и озер. В настоящее время холера практически побеждена, а в случае заболеваний успешно лечится, в чем большую роль играют антибиот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39640" y="692280"/>
            <a:ext cx="3672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Холерный вибри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156520" cy="29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Проблема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очему с вирусами – возбудителями заболеваний трудно вести борьбу и полностью их уничтожить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50920" y="4149360"/>
            <a:ext cx="6842160" cy="23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ahoma"/>
              </a:rPr>
              <a:t>Цел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узнать состав, строение и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особенности   жизнедеятельности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вирусов, бактери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Уметь бороться против вирусны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заболеваний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7451640" y="5229360"/>
            <a:ext cx="1428840" cy="119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9900"/>
                            </p:stCondLst>
                            <p:childTnLst>
                              <p:par>
                                <p:cTn id="3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" dur="1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" dur="10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" dur="10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" dur="10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" dur="10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"/>
          <p:cNvGrpSpPr/>
          <p:nvPr/>
        </p:nvGrpSpPr>
        <p:grpSpPr>
          <a:xfrm>
            <a:off x="2916360" y="1543680"/>
            <a:ext cx="5922360" cy="1740960"/>
            <a:chOff x="2916360" y="1543680"/>
            <a:chExt cx="5922360" cy="1740960"/>
          </a:xfrm>
        </p:grpSpPr>
        <p:cxnSp>
          <p:nvCxnSpPr>
            <p:cNvPr id="160" name="_s18469"/>
            <p:cNvCxnSpPr>
              <a:stCxn id="161" idx="0"/>
              <a:endCxn id="162" idx="2"/>
            </p:cNvCxnSpPr>
            <p:nvPr/>
          </p:nvCxnSpPr>
          <p:spPr>
            <a:xfrm flipV="1">
              <a:off x="7421400" y="2617200"/>
              <a:ext cx="1440" cy="176760"/>
            </a:xfrm>
            <a:prstGeom prst="bentConnector2">
              <a:avLst/>
            </a:prstGeom>
            <a:ln w="28440">
              <a:solidFill>
                <a:srgbClr val="b8b7d1"/>
              </a:solidFill>
              <a:miter/>
            </a:ln>
          </p:spPr>
        </p:cxnSp>
        <p:cxnSp>
          <p:nvCxnSpPr>
            <p:cNvPr id="163" name="_s18467"/>
            <p:cNvCxnSpPr>
              <a:stCxn id="164" idx="0"/>
              <a:endCxn id="165" idx="2"/>
            </p:cNvCxnSpPr>
            <p:nvPr/>
          </p:nvCxnSpPr>
          <p:spPr>
            <a:xfrm flipV="1">
              <a:off x="4334760" y="2617200"/>
              <a:ext cx="1080" cy="176760"/>
            </a:xfrm>
            <a:prstGeom prst="bentConnector2">
              <a:avLst/>
            </a:prstGeom>
            <a:ln w="28440">
              <a:solidFill>
                <a:srgbClr val="b8b7d1"/>
              </a:solidFill>
              <a:miter/>
            </a:ln>
          </p:spPr>
        </p:cxnSp>
        <p:cxnSp>
          <p:nvCxnSpPr>
            <p:cNvPr id="166" name="_s18465"/>
            <p:cNvCxnSpPr>
              <a:stCxn id="162" idx="0"/>
              <a:endCxn id="167" idx="2"/>
            </p:cNvCxnSpPr>
            <p:nvPr/>
          </p:nvCxnSpPr>
          <p:spPr>
            <a:xfrm flipV="1" rot="16200000">
              <a:off x="6561360" y="1247760"/>
              <a:ext cx="176760" cy="1543320"/>
            </a:xfrm>
            <a:prstGeom prst="bentConnector3">
              <a:avLst>
                <a:gd name="adj1" fmla="val 49387"/>
              </a:avLst>
            </a:prstGeom>
            <a:ln w="28440">
              <a:solidFill>
                <a:srgbClr val="b8b7d1"/>
              </a:solidFill>
              <a:miter/>
            </a:ln>
          </p:spPr>
        </p:cxnSp>
        <p:cxnSp>
          <p:nvCxnSpPr>
            <p:cNvPr id="168" name="_s18463"/>
            <p:cNvCxnSpPr>
              <a:stCxn id="165" idx="0"/>
              <a:endCxn id="167" idx="2"/>
            </p:cNvCxnSpPr>
            <p:nvPr/>
          </p:nvCxnSpPr>
          <p:spPr>
            <a:xfrm flipH="1" flipV="1" rot="5400000">
              <a:off x="5018400" y="1247400"/>
              <a:ext cx="176760" cy="1544040"/>
            </a:xfrm>
            <a:prstGeom prst="bentConnector3">
              <a:avLst>
                <a:gd name="adj1" fmla="val 49387"/>
              </a:avLst>
            </a:prstGeom>
            <a:ln w="28440">
              <a:solidFill>
                <a:srgbClr val="b8b7d1"/>
              </a:solidFill>
              <a:miter/>
            </a:ln>
          </p:spPr>
        </p:cxnSp>
        <p:sp>
          <p:nvSpPr>
            <p:cNvPr id="167" name="_s18459"/>
            <p:cNvSpPr/>
            <p:nvPr/>
          </p:nvSpPr>
          <p:spPr>
            <a:xfrm>
              <a:off x="5292720" y="1543680"/>
              <a:ext cx="1169280" cy="3880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5454c6"/>
              </a:solidFill>
              <a:miter/>
            </a:ln>
            <a:effectLst>
              <a:outerShdw dist="63504" dir="19383909" blurRad="0" rotWithShape="0">
                <a:srgbClr val="5454c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44280" rIns="44280" tIns="21960" bIns="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Вирусы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(по составу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_s18460"/>
            <p:cNvSpPr/>
            <p:nvPr/>
          </p:nvSpPr>
          <p:spPr>
            <a:xfrm>
              <a:off x="3718080" y="2108160"/>
              <a:ext cx="1233360" cy="5097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6a6f86"/>
              </a:solidFill>
              <a:miter/>
            </a:ln>
            <a:effectLst>
              <a:outerShdw dist="63504" dir="19383909" blurRad="0" rotWithShape="0">
                <a:srgbClr val="6a6f8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44280" rIns="44280" tIns="21960" bIns="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ДНК –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содержащие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_s18462"/>
            <p:cNvSpPr/>
            <p:nvPr/>
          </p:nvSpPr>
          <p:spPr>
            <a:xfrm>
              <a:off x="6804360" y="2108160"/>
              <a:ext cx="1233360" cy="50976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6a6f86"/>
              </a:solidFill>
              <a:miter/>
            </a:ln>
            <a:effectLst>
              <a:outerShdw dist="63504" dir="19383909" blurRad="0" rotWithShape="0">
                <a:srgbClr val="6a6f8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44280" rIns="44280" tIns="21960" bIns="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РНК –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содержащие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ретровирусы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_s18466"/>
            <p:cNvSpPr/>
            <p:nvPr/>
          </p:nvSpPr>
          <p:spPr>
            <a:xfrm>
              <a:off x="2916360" y="2794320"/>
              <a:ext cx="2836440" cy="4903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63504" dir="19383909" blurRad="0" rotWithShape="0">
                <a:srgbClr val="f1f0f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44280" rIns="44280" tIns="21960" bIns="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Осп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герпес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_s18468"/>
            <p:cNvSpPr/>
            <p:nvPr/>
          </p:nvSpPr>
          <p:spPr>
            <a:xfrm>
              <a:off x="6002280" y="2794320"/>
              <a:ext cx="2836440" cy="490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63504" dir="19383909" blurRad="0" rotWithShape="0">
                <a:srgbClr val="f1f0f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44280" rIns="44280" tIns="21960" bIns="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Грипп, краснуха, бешенство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ВИЧ, атипичная пневмон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324000" y="4224240"/>
            <a:ext cx="4038120" cy="1174680"/>
            <a:chOff x="324000" y="4224240"/>
            <a:chExt cx="4038120" cy="1174680"/>
          </a:xfrm>
        </p:grpSpPr>
        <p:cxnSp>
          <p:nvCxnSpPr>
            <p:cNvPr id="170" name="_s18472"/>
            <p:cNvCxnSpPr>
              <a:stCxn id="171" idx="0"/>
              <a:endCxn id="172" idx="2"/>
            </p:cNvCxnSpPr>
            <p:nvPr/>
          </p:nvCxnSpPr>
          <p:spPr>
            <a:xfrm flipV="1" rot="16200000">
              <a:off x="2762280" y="4293720"/>
              <a:ext cx="228600" cy="10656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b8b7d1"/>
              </a:solidFill>
              <a:miter/>
            </a:ln>
          </p:spPr>
        </p:cxnSp>
        <p:cxnSp>
          <p:nvCxnSpPr>
            <p:cNvPr id="173" name="_s18473"/>
            <p:cNvCxnSpPr>
              <a:stCxn id="174" idx="0"/>
              <a:endCxn id="172" idx="2"/>
            </p:cNvCxnSpPr>
            <p:nvPr/>
          </p:nvCxnSpPr>
          <p:spPr>
            <a:xfrm flipH="1" flipV="1" rot="5400000">
              <a:off x="1696680" y="4293360"/>
              <a:ext cx="228600" cy="1066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b8b7d1"/>
              </a:solidFill>
              <a:miter/>
            </a:ln>
          </p:spPr>
        </p:cxnSp>
        <p:sp>
          <p:nvSpPr>
            <p:cNvPr id="172" name="_s18474"/>
            <p:cNvSpPr/>
            <p:nvPr/>
          </p:nvSpPr>
          <p:spPr>
            <a:xfrm>
              <a:off x="1688400" y="4224240"/>
              <a:ext cx="1310400" cy="4885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5454c6"/>
              </a:solidFill>
              <a:miter/>
            </a:ln>
            <a:effectLst>
              <a:outerShdw dist="63504" dir="19383909" blurRad="0" rotWithShape="0">
                <a:srgbClr val="5454c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53280" rIns="53280" tIns="26640" bIns="26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Вирус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по строению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_s18475"/>
            <p:cNvSpPr/>
            <p:nvPr/>
          </p:nvSpPr>
          <p:spPr>
            <a:xfrm>
              <a:off x="324000" y="4942080"/>
              <a:ext cx="1905840" cy="45684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6a6f86"/>
              </a:solidFill>
              <a:miter/>
            </a:ln>
            <a:effectLst>
              <a:outerShdw dist="63504" dir="19383909" blurRad="0" rotWithShape="0">
                <a:srgbClr val="6a6f8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53280" rIns="53280" tIns="26640" bIns="26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Просты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Вирус табачной мозаик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_s18476"/>
            <p:cNvSpPr/>
            <p:nvPr/>
          </p:nvSpPr>
          <p:spPr>
            <a:xfrm>
              <a:off x="2456280" y="4942080"/>
              <a:ext cx="1905840" cy="456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6a6f86"/>
              </a:solidFill>
              <a:miter/>
            </a:ln>
            <a:effectLst>
              <a:outerShdw dist="63504" dir="19383909" blurRad="0" rotWithShape="0">
                <a:srgbClr val="6a6f8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53280" rIns="53280" tIns="26640" bIns="26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Сложны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Грипп, ВИЧ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123640" y="475920"/>
            <a:ext cx="597708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троение и состав вирус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9"/>
          <a:stretch/>
        </p:blipFill>
        <p:spPr>
          <a:xfrm>
            <a:off x="395280" y="404640"/>
            <a:ext cx="1601640" cy="331164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1957320" y="227664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Капси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692360" y="2421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152080" y="1052640"/>
            <a:ext cx="1553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Нуклеинова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кисло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476360" y="126828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135840" y="4451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129280" y="3645000"/>
            <a:ext cx="3672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Химические вещества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ДН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РН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Бел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Углев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Липид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title"/>
          </p:nvPr>
        </p:nvSpPr>
        <p:spPr>
          <a:xfrm>
            <a:off x="250560" y="-5508720"/>
            <a:ext cx="7308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000"/>
                            </p:stCondLst>
                            <p:childTnLst>
                              <p:par>
                                <p:cTn id="8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500"/>
                            </p:stCondLst>
                            <p:childTnLst>
                              <p:par>
                                <p:cTn id="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4500"/>
                            </p:stCondLst>
                            <p:childTnLst>
                              <p:par>
                                <p:cTn id="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rcRect l="33001" t="12503" r="15981" b="0"/>
          <a:stretch/>
        </p:blipFill>
        <p:spPr>
          <a:xfrm>
            <a:off x="1908000" y="1268280"/>
            <a:ext cx="5688360" cy="51850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2543400" y="404640"/>
            <a:ext cx="50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Строение бактериофа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6" name=""/>
          <p:cNvGraphicFramePr/>
          <p:nvPr/>
        </p:nvGraphicFramePr>
        <p:xfrm>
          <a:off x="324000" y="692280"/>
          <a:ext cx="718920" cy="129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692280"/>
                    <a:ext cx="718920" cy="129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Arial"/>
              </a:rPr>
              <a:t>Этапы жизнедеятельности вирус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4000" y="2060280"/>
            <a:ext cx="793116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 Прикрепление вируса к клетке –хозяин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 Проникновение вируса в клетку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 Редупликация вирусного геном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. Синтез вирусных белков и самосборка капсид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. Выход вируса из клетк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"/>
          <p:cNvSpPr/>
          <p:nvPr/>
        </p:nvSpPr>
        <p:spPr>
          <a:xfrm>
            <a:off x="324000" y="5229360"/>
            <a:ext cx="856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ahoma"/>
              </a:rPr>
              <a:t>Вирусы</a:t>
            </a: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 –  внутриклеточные паразиты, которые действуют на генетическом уров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3000"/>
                            </p:stCondLst>
                            <p:childTnLst>
                              <p:par>
                                <p:cTn id="14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0"/>
                            </p:stCondLst>
                            <p:childTnLst>
                              <p:par>
                                <p:cTn id="14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7000"/>
                            </p:stCondLst>
                            <p:childTnLst>
                              <p:par>
                                <p:cTn id="15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9000"/>
                            </p:stCondLst>
                            <p:childTnLst>
                              <p:par>
                                <p:cTn id="16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2124000" y="1484280"/>
            <a:ext cx="5184720" cy="48006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71480" y="281160"/>
            <a:ext cx="5780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52440"/>
            <a:ext cx="5635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роение вируса иммунодефицита человек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4" name=""/>
          <p:cNvGraphicFramePr/>
          <p:nvPr/>
        </p:nvGraphicFramePr>
        <p:xfrm>
          <a:off x="611280" y="404640"/>
          <a:ext cx="8064360" cy="5616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404640"/>
                    <a:ext cx="8064360" cy="561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6" name=""/>
          <p:cNvGraphicFramePr/>
          <p:nvPr/>
        </p:nvGraphicFramePr>
        <p:xfrm>
          <a:off x="457200" y="277920"/>
          <a:ext cx="8229600" cy="64832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9900"/>
                          </a:solidFill>
                          <a:latin typeface="Tahoma"/>
                        </a:rPr>
                        <a:t>Безопасн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8d8d"/>
                          </a:solidFill>
                          <a:latin typeface="Tahoma"/>
                        </a:rPr>
                        <a:t>Опасно!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Очень опасно!!!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кус кома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рокалывание уш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ножественные половые связ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ользование общественным туалето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анесение татуиров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ереливание кров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оцелуй в щек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ользование чужой зубной щетко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спользование прокипяченных шприце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ход за больным СПИДо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ользование чужими ножницам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кус постельного клоп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ользование чужими щипцами для ногт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лавание в бассейн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оцелуй в губ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бъятия с больным СПИДо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4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Arial"/>
              </a:rPr>
              <a:t>Залог здоровья: </a:t>
            </a:r>
            <a:r>
              <a:rPr b="1" lang="en-US" sz="4800" spc="-1" strike="noStrike">
                <a:solidFill>
                  <a:srgbClr val="990000"/>
                </a:solidFill>
                <a:latin typeface="Arial"/>
              </a:rPr>
              <a:t>иммуните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7854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9900"/>
                </a:solidFill>
                <a:latin typeface="Tahoma"/>
              </a:rPr>
              <a:t>СПОСОБЫ ПОВЫШЕНИЯ ИММУНИТЕТА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c6"/>
                </a:solidFill>
                <a:latin typeface="Tahoma"/>
              </a:rPr>
              <a:t>ЗАКАЛИВАНИЕ ОРГАНИЗМ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c6"/>
                </a:solidFill>
                <a:latin typeface="Tahoma"/>
              </a:rPr>
              <a:t>ЗАНЯТИЯ СПОРТОМ И ФИЗКУЛЬТУРО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c6"/>
                </a:solidFill>
                <a:latin typeface="Tahoma"/>
              </a:rPr>
              <a:t>ПРАВИЛЬНОЕ ПИТАНИ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c6"/>
                </a:solidFill>
                <a:latin typeface="Tahoma"/>
              </a:rPr>
              <a:t>РЕГУЛЯРНОЕ УПОТРЕБЛЕНИЕ ОВОЩЕЙ И ФРУКТОВ, СОДЕРЖАЩИХ ВИТАМИН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c6"/>
                </a:solidFill>
                <a:latin typeface="Tahoma"/>
              </a:rPr>
              <a:t>НОРМАЛЬНЫЙ СОН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c6"/>
                </a:solidFill>
                <a:latin typeface="Tahoma"/>
              </a:rPr>
              <a:t>ВСЕГДА ДОБРОЕ ОТНОШЕНИЕ К ЛЮДЯМ И ХОРОШЕЕ НАСТРОЕНИ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2T06:06:28Z</dcterms:created>
  <dc:creator>User</dc:creator>
  <dc:description/>
  <dc:language>en-US</dc:language>
  <cp:lastModifiedBy>Малышева</cp:lastModifiedBy>
  <dcterms:modified xsi:type="dcterms:W3CDTF">2011-01-24T18:38:37Z</dcterms:modified>
  <cp:revision>58</cp:revision>
  <dc:subject/>
  <dc:title>Слайд 1</dc:title>
</cp:coreProperties>
</file>